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9EE-8E7F-42B1-A8DE-538FCFFC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2F4-D89E-4A06-8F09-22D6DBFE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4C4-60D2-439F-90AB-8B8E8199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23C-3AB0-4144-9B44-EE45EC3D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3CA-0050-446D-8F3B-0BE34EC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B03-6876-45B6-BC63-F3419C34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B22-E0EA-4C50-8289-214E337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C4E-6D0A-4FC5-913B-269E984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053-B511-4AA2-9832-C41F72D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670-44A8-433E-8D41-D2D8A3B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6AB-3D54-492D-BA66-35ED06E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A1C-4BD8-4D5C-81B3-81101C7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4E61-37E6-4C78-ADBA-AA9A3CD2C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i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easy for the Puritans to believe what was happening during the Salem Witch Trials was logical and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after the initial trials it became apparent to many that the justice system was being perverted for others’ 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Lorenzo%2520Lotto%2520-%2520St"/>
          <p:cNvPicPr/>
          <p:nvPr/>
        </p:nvPicPr>
        <p:blipFill>
          <a:blip r:embed="rId1"/>
          <a:stretch/>
        </p:blipFill>
        <p:spPr>
          <a:xfrm>
            <a:off x="762120" y="1676520"/>
            <a:ext cx="3651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Puritan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oup who wanted to reform the Anglican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anted no separation from church an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uritan family"/>
          <p:cNvPicPr/>
          <p:nvPr/>
        </p:nvPicPr>
        <p:blipFill>
          <a:blip r:embed="rId1"/>
          <a:stretch/>
        </p:blipFill>
        <p:spPr>
          <a:xfrm>
            <a:off x="4648320" y="1523880"/>
            <a:ext cx="41148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spiritual vision to build a "city upon a hill" as a sign for God’s will for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anted to create a “New Jerusale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the%20cross%20picture"/>
          <p:cNvPicPr/>
          <p:nvPr/>
        </p:nvPicPr>
        <p:blipFill>
          <a:blip r:embed="rId1"/>
          <a:stretch/>
        </p:blipFill>
        <p:spPr>
          <a:xfrm>
            <a:off x="457200" y="1600200"/>
            <a:ext cx="384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s with the Puri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d not believe in religious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not tolerate those who dis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mage Preview"/>
          <p:cNvPicPr/>
          <p:nvPr/>
        </p:nvPicPr>
        <p:blipFill>
          <a:blip r:embed="rId1"/>
          <a:stretch/>
        </p:blipFill>
        <p:spPr>
          <a:xfrm>
            <a:off x="4419720" y="17524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he Puritans Dealt with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ger Williams believed they stole the land from Indians – They banish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e Hutchinson believed that you could know God without the help of ministers or the Bible – They banish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not tolerate people who disagreed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fference between Puritans and Pilgr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Puritans" wanted to remain as part of the England, working for biblical reform from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y moved to New England, they affirmed their "Englishness" and saw the main purpose of their new colony as being that of a biblical witness, a "city on a hill" which would set an example of biblical righteousness in church and state for Old England and the entire world to s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trongly emphasized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rpor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ghteousness of their entire community before G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fference between Puritans and Pilgr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Pilgrims" wanted to achieve church reform even if it meant separating from their church and their 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y continued to think of themselves as English, their emphasis was on their new political identity and spiritual 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ir passionate commitment to the necessity of reformation immediate and without compromise, they emphasized especially strongl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ndividu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eousness before G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he Pilgrims, the Puritans did not make peace with the Native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very superstit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ieved the Devil walked amo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ndians_desoto"/>
          <p:cNvPicPr/>
          <p:nvPr/>
        </p:nvPicPr>
        <p:blipFill>
          <a:blip r:embed="rId1"/>
          <a:stretch/>
        </p:blipFill>
        <p:spPr>
          <a:xfrm>
            <a:off x="4419720" y="1600200"/>
            <a:ext cx="42670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Mather'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morable Providences, Relating to Witchcrafts and Possess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1689), helped generate an unbalanced fascination with witchcraf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itans believed in witches and spir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witch"/>
          <p:cNvPicPr/>
          <p:nvPr/>
        </p:nvPicPr>
        <p:blipFill>
          <a:blip r:embed="rId1"/>
          <a:stretch/>
        </p:blipFill>
        <p:spPr>
          <a:xfrm>
            <a:off x="4724280" y="16002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1:11:43Z</dcterms:created>
  <dc:creator>Administrator</dc:creator>
  <dc:description/>
  <dc:language>en-US</dc:language>
  <cp:lastModifiedBy>Teacher</cp:lastModifiedBy>
  <dcterms:modified xsi:type="dcterms:W3CDTF">2009-09-21T00:39:17Z</dcterms:modified>
  <cp:revision>7</cp:revision>
  <dc:subject/>
  <dc:title>The Puritans</dc:title>
</cp:coreProperties>
</file>